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930320"/>
          <a:ext cx="91440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30320"/>
                    <a:ext cx="91440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5748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057400"/>
            <a:ext cx="70866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Arial"/>
              </a:rPr>
              <a:t>Your 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VACET_Logo-Background" descr="file:///C:/LBLDesk/VACET_Logo-Back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Some stuff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more stu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5:38:55Z</dcterms:created>
  <dc:creator>Wes Bethel</dc:creator>
  <dc:description/>
  <dc:language>en-US</dc:language>
  <cp:lastModifiedBy>Sysadmin</cp:lastModifiedBy>
  <dcterms:modified xsi:type="dcterms:W3CDTF">2009-10-08T16:57:45Z</dcterms:modified>
  <cp:revision>129</cp:revision>
  <dc:subject/>
  <dc:title>PowerPoint Presentation</dc:title>
</cp:coreProperties>
</file>